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DEA-AD5E-4BFD-8EE5-762383F1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881-117E-4DA2-ADC7-68252109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C63-1E50-4D99-82D0-4F174EC9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714-6E8E-45A8-9425-2E9347A8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B3C-2374-4EFB-9646-0957222F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9CC-D8F8-46FB-8EA8-DBCB0BD3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C91-3449-433B-AFA8-0638313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FE7-5998-47AA-A1E2-F22CCCD9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C0E-431C-4944-82FC-C29F894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9E8-77C8-4E94-AD00-A651C69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84F-F4CD-4783-B019-94F0729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7B0-C5A0-4808-AB52-0CCD07E4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9BCE-A33C-44A9-8F44-10810550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:  the season After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Wo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ll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not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uli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c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2:26:46Z</dcterms:created>
  <dc:creator>Rooseveltlab</dc:creator>
  <dc:description/>
  <dc:language>en-US</dc:language>
  <cp:lastModifiedBy>Roosevelt2</cp:lastModifiedBy>
  <dcterms:modified xsi:type="dcterms:W3CDTF">2008-12-15T21:47:37Z</dcterms:modified>
  <cp:revision>3</cp:revision>
  <dc:subject/>
  <dc:title>autumn</dc:title>
</cp:coreProperties>
</file>